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D9C-911A-4CD5-AC84-5F6764BD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7E9-FE22-40AD-8D21-E5FC8FFC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0BA-7AC5-4415-9B5D-E18E4F5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91A-4472-4823-9CBE-985F39DC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135-7B96-440A-BDC1-769BB296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2B1-0D51-44F8-9F53-729E9FA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19D-796D-431B-A164-36719FF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B03-336E-499A-A1FB-3025678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A1A-08C6-4E6E-9A43-5723A8B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2B8-2024-42C3-8734-6DF4E1E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66F-9EF4-4121-9647-0A80CAF6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3C8-3C96-4447-9C06-89C07230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00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5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00330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9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1208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B203-520E-463A-B134-1A99BFB1FA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%20%20&#22522;&#30784;&#30693;&#35782;.ppt#1. &#31532;1&#31456;    &#22522;&#30784;&#30693;&#35782;" TargetMode="External"/><Relationship Id="rId2" Type="http://schemas.openxmlformats.org/officeDocument/2006/relationships/hyperlink" Target="file:///&#31532;2&#31456;%20%20&#23547;&#22336;&#26041;&#24335;&#21644;&#25351;&#20196;&#31995;&#32479;.ppt#1. &#31532;2&#31456;  &#23547;&#22336;&#26041;&#24335;&#21644;&#25351;&#20196;&#31995;&#32479;" TargetMode="External"/><Relationship Id="rId3" Type="http://schemas.openxmlformats.org/officeDocument/2006/relationships/hyperlink" Target="file:///&#31532;3&#31456;%20%20&#23439;&#27719;&#32534;&#35821;&#35328;.ppt" TargetMode="External"/><Relationship Id="rId4" Type="http://schemas.openxmlformats.org/officeDocument/2006/relationships/hyperlink" Target="file:///&#31532;4&#31456;%20%20&#31243;&#24207;&#35774;&#35745;&#26041;&#27861;.ppt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华文新魏"/>
              </a:rPr>
              <a:t>汇编语言程序设计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33720" y="2666520"/>
            <a:ext cx="6324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编 ：      宋锦河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副主编 ：      曾长军　李珍香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                    陈兴无　王泽生　　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审：       黄维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67108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中国水利水电出版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9920" y="50760"/>
            <a:ext cx="26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《汇编语言程序设计》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1"/>
              </a:rPr>
              <a:t>第1章  基础知识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2"/>
              </a:rPr>
              <a:t>第2章  寻址方式和指令系统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3"/>
              </a:rPr>
              <a:t>第3章  宏汇编语言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华文楷体"/>
                <a:ea typeface="华文楷体"/>
                <a:hlinkClick r:id="rId4"/>
              </a:rPr>
              <a:t>第4章  程序设计方法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章  输入输出和中断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章  应用系统开发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531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章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    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基础知识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80720" y="22860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1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汇编语言及特点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2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据表示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3    8086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PU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寄存器组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.4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存储器物理地址的形成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13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Arial"/>
              </a:rPr>
              <a:t>2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ffff"/>
                </a:solidFill>
                <a:latin typeface="Arial"/>
                <a:ea typeface="黑体"/>
              </a:rPr>
              <a:t>寻址方式和指令系统</a:t>
            </a:r>
            <a:endParaRPr b="1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3200" y="22096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寻址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传送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算术运算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操作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串操作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控制转移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处理机控制类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531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3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章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Arial"/>
              </a:rPr>
              <a:t>  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宏汇编语言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90560" y="259056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1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宏汇编语言格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汇编语句表达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3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伪指令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4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系统功能调用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5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综合举例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6832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 Black"/>
                <a:ea typeface="黑体"/>
              </a:rPr>
              <a:t>第</a:t>
            </a:r>
            <a:r>
              <a:rPr b="0" lang="zh-CN" sz="4400" spc="-1" strike="noStrike">
                <a:solidFill>
                  <a:srgbClr val="ccffff"/>
                </a:solidFill>
                <a:latin typeface="Arial Black"/>
                <a:ea typeface="黑体"/>
              </a:rPr>
              <a:t>4</a:t>
            </a:r>
            <a:r>
              <a:rPr b="0" lang="zh-CN" sz="4400" spc="-1" strike="noStrike">
                <a:solidFill>
                  <a:srgbClr val="ccffff"/>
                </a:solidFill>
                <a:latin typeface="Arial Black"/>
                <a:ea typeface="黑体"/>
              </a:rPr>
              <a:t>章  程序设计方法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顺序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分支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循环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子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模块化程序设计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级汇编语言技术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606960"/>
            <a:ext cx="6019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章  输入输出和中断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09680" y="2437920"/>
            <a:ext cx="575784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1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设备数据传送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断传送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3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IO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断调用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.4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综合举例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6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第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ccffff"/>
                </a:solidFill>
                <a:latin typeface="Arial"/>
                <a:ea typeface="黑体"/>
              </a:rPr>
              <a:t>章  应用系统开发</a:t>
            </a:r>
            <a:endParaRPr b="1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28800" y="2819520"/>
            <a:ext cx="6324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81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81b7"/>
                </a:solidFill>
                <a:latin typeface="Arial Black"/>
              </a:rPr>
              <a:t>﹡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6.1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汽车动画程序开发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2181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81b7"/>
                </a:solidFill>
                <a:latin typeface="Arial Black"/>
              </a:rPr>
              <a:t>﹡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6.2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发声系统程序开发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2819520"/>
            <a:ext cx="563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欢迎您使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《汇编语言程序设计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1674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BatangChe"/>
                <a:ea typeface="BatangChe"/>
              </a:rPr>
              <a:t>Thank you very much !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67108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中国水利水电出版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endshow"/>
          </p:cNvPr>
          <p:cNvSpPr/>
          <p:nvPr/>
        </p:nvSpPr>
        <p:spPr>
          <a:xfrm>
            <a:off x="1752480" y="5715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结  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8:48:37Z</dcterms:created>
  <dc:creator>新人电脑</dc:creator>
  <dc:description/>
  <dc:language>en-US</dc:language>
  <cp:lastModifiedBy>Administrator</cp:lastModifiedBy>
  <dcterms:modified xsi:type="dcterms:W3CDTF">2001-11-14T07:33:34Z</dcterms:modified>
  <cp:revision>10</cp:revision>
  <dc:subject/>
  <dc:title>第1章    基础知识</dc:title>
</cp:coreProperties>
</file>